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322-CCCB-4E9B-87F8-E712DB89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53B-C2EC-4FE9-9456-61E3CF1A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1B7-A8AC-482A-8B99-9EBB8914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B11-1F2A-4653-B777-5B7F4434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E69-7A0B-4A5C-A849-0EC5C5B1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DC0-E73E-42EA-8FC3-411678C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BC2-E3D9-4C81-9C8B-675F2B4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F17-7E49-4700-B67A-7A05A1E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72E-D0BF-42FE-98AE-EF29977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D07-A323-4D4A-ABE1-8E10B11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CBC-28FF-4535-9F60-A26F64B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FAC-5648-474E-8946-3CA3F08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BE9-A9F0-4225-B4C5-90CE72E8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hra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314172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cc0099"/>
                </a:solidFill>
                <a:latin typeface="Arial"/>
              </a:rPr>
              <a:t>par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of a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NZ" sz="4000" spc="-1" strike="noStrike">
                <a:solidFill>
                  <a:srgbClr val="cc0099"/>
                </a:solidFill>
                <a:latin typeface="Arial"/>
              </a:rPr>
              <a:t>missing a verb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700280"/>
            <a:ext cx="60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 group of words joined together to make sen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157720"/>
            <a:ext cx="82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EG: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...on the 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1:05:34Z</dcterms:modified>
  <cp:revision>33</cp:revision>
  <dc:subject/>
  <dc:title>Simile</dc:title>
</cp:coreProperties>
</file>